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A201-7627-4E92-A471-DBF4BCA6B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C418-89FC-4DCD-95A3-AE7EC175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A30D-368A-4423-96E3-F2B982A27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90BB-8791-47D6-A341-14333320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AD59C-4327-43A8-8DE1-AFAD48D8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DE346-41D1-4B37-ABC6-C9D9299E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7E289-5452-4233-BDD2-F543C595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B6393-B465-4D1A-8DD1-393D2768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C63D4-24C0-4F54-9B91-1C6B0E04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06A29-1EE7-43EF-AA51-D9266E29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984A5-054D-441B-9CEC-75007FB3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FD43-B326-434C-86B5-0BDE1272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124AB-52AE-4FB9-8846-EA291E63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9F467-0D4D-4890-9888-C6FF2B10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DD0AD-3CF2-4408-AD53-A7626860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49996-52A7-4C0B-A67E-AA0FBB8CB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2F88F-2A42-4FF1-B896-44A46024F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9931-CC3C-4146-AE79-64ACC238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4DCD-2E15-4A86-B62D-4DFF1358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9C55-EE31-4CFA-8D1A-0971D24E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96EC-B906-414E-91C1-15092D45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15F4-6F93-4FFC-BED3-40A520E8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53A5-5160-4C61-B78F-2A695FA3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593A-2EC8-4B3B-BB8D-C0674465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4EA0-CABF-4B1D-966E-2B7EBC9856E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84D2-0428-455F-94C3-2C76A5C24A6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The significance of the Soweto Rio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Soweto, 16th June, 1976. Photo: Sam Nzima."/>
          <p:cNvPicPr/>
          <p:nvPr/>
        </p:nvPicPr>
        <p:blipFill>
          <a:blip r:embed="rId1"/>
          <a:stretch/>
        </p:blipFill>
        <p:spPr>
          <a:xfrm>
            <a:off x="2987640" y="2565360"/>
            <a:ext cx="29019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Aims of this series of less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By the end of this series of lessons you will have –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Tahoma"/>
              </a:rPr>
              <a:t>Used both primary (contemporary) and secondary evidence to develop your understanding of the causes, events and consequences of the Soweto Riot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Used a variety of different types of evidence to help in your research e.g. Internet sites, DVDs, History textbooks, interviews and contemporary letter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Tahoma"/>
              </a:rPr>
              <a:t>Produced a detailed coursework assignmen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Worked with a partner to share ideas whilst producing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your own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presentation to help you and your peers understand this topi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Tahoma"/>
              </a:rPr>
              <a:t>Evaluated the work of your peers to help spot errors and omissio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Background to the Soweto Rio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partheid laws divided South Africans and visitors into racial groups (black, white, coloured, and Indian or Asian). South African blacks were stripped of their citizenship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Tahoma"/>
              </a:rPr>
              <a:t>The government segregated education, medical care, and other public services, and provided black people with services greatly inferior to those of whites, and, to a lesser extent, to those of Indians and coloureds. The education system practised in 'black schools' was designed to prepare blacks for lives as a labouring clas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n 1963, the name Soweto (SOuth WEstern TOwnship) was officially adopted for the sprawling township that now occupied what had previously been farm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Tahoma"/>
              </a:rPr>
              <a:t>Soweto came to the world's attention on June 16, 1976 with the Soweto Upris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3840" cy="93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Reflect – How do the images make you feel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soweto.wmv" descr=""/>
          <p:cNvPicPr/>
          <p:nvPr/>
        </p:nvPicPr>
        <p:blipFill>
          <a:blip r:embed="rId1"/>
          <a:stretch/>
        </p:blipFill>
        <p:spPr>
          <a:xfrm>
            <a:off x="1071720" y="1500120"/>
            <a:ext cx="678636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7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3:00:20Z</dcterms:created>
  <dc:creator>mark</dc:creator>
  <dc:description/>
  <dc:language>en-US</dc:language>
  <cp:lastModifiedBy>Lusty</cp:lastModifiedBy>
  <dcterms:modified xsi:type="dcterms:W3CDTF">2009-03-07T16:06:20Z</dcterms:modified>
  <cp:revision>8</cp:revision>
  <dc:subject/>
  <dc:title>http://uk.youtube.com/watch?v=2LE0c3iTfGk  </dc:title>
</cp:coreProperties>
</file>